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8FE-468D-4E69-B175-638FA76C8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9B2A-D68E-4884-9986-51CC9045F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C995-915D-4345-A430-EC64084AA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345-30E2-46DB-9E44-2A4F2C95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C50-52DE-4503-AE49-701CF16F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AB6-1476-48D5-A87E-FDE2733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226-8926-415B-ACEE-E1FFCAE4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A46-E2F7-44CF-A3A5-3EB0C5CE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757-F614-4544-AB79-77865D9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B13-6DAA-4854-92B4-CDFD38B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DE6-9EB7-456F-A309-6C888F83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ABB-FAE0-45A7-8DE0-5DFC3715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25D-C518-4E63-8BF7-5E6C0F8C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AAA-D539-4372-809E-AF96DC6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310-23DB-4829-A547-31371197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2D87-C426-43EE-979C-400EAAC546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2572-9C3E-4F03-ACD5-9FB509EBD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RE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existing IDUs/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corporate a variety of learning materials and resources to enhance the Science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velop deeper content knowledge of the </a:t>
            </a:r>
            <a:r>
              <a:rPr b="1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scientific inqui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process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on ‘observing’ &amp; ‘comparing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 measuring lessons to teac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(similarities, differe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by 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rting l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needed to mak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pari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ginning and end 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placing un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nd to e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wo important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non standard uni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m length, shoe, penc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units give more consistent results than non-standard un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 second grad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se of standard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hould know to make use of marks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lers (centi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ance scale (gram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meters (degrees in F or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Q: what makes a good data table/grap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able (well-labe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 Graph (well-labe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 Graph (well-labe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DRY MIX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(for grap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D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dependent     or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sponding variable; 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Y-ax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M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Manipulated or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Independent variable;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X-ax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ing/Investig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ntroll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one variable at a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Manipulated/Independent 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Observe the effect on another Variable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sponding/ Depende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Keep all other variables const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Controlled Vari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nemonic Ai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variable goes where on a graph?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(DRY MIX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Inquiry- 5 ta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king a question (from observations etc.) about objects, organisms,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lan and conduct an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her and interpret data using appropriate tools/techniques….. Examples.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r, thermo m., measu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evidenc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lanations (answer the question)…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support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e findings to others…How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peaking, writing, draw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Science w/ Understading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ue understanding mea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an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and express in 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you lea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cepts to real-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u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nowledge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can you help Enhance Understand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c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prior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? - Recall, Rehearse  (frequent revie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f none exi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rea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 prior knowled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knowledge: use it in a new situa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ganiz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: Use of graphic organizers like outlines, spider maps, webs, Venn diagram, concept ma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caffold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ing degrees of teacher and peer assista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e/Mis- con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es to remov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mis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 student dissatisfaction with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scientific 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or application and Integration of new 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E Model of Science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abo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/Guidin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tart a resource binder/self teac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Learn (and apply) 5-E model of Scienc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processes of Science are used in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hat activities are useful in teaching students  how to apply specific process of scien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 of Sci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ify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rt…based on common proper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err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ased on obs. &amp; prior knowled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asur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quantify variables using Metric Syst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report, displays- data table, graphs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z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f…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….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ecause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guide an investigation of a ques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dic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results, patter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extra, intrapo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 contro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vestig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athering info using 5 senses and instruments that extend the sen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 and K: start making use of these senses; se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 may mis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will you teach Observing to K-3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SERVE FOR DETAI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xamples of objects: candies, coi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wo type of observa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Qualit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Quantitative (measur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makes a good scientific observing? ----    A Check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n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use all (safe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quantit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-- lead to new 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ter the object to answer new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recording it may help you compa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Use this checklist with Skittles/M &amp; 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rting according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attributes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sed on observations, relationships among the proper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ary Classific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de up in to 2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stage Classif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ganism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iscussion: How will you teach this process of Science?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milar (common) propert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sk questions….What,  Wh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Life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 is a stat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use of 5 s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pretation of observa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d prior knowledge)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ference looks backward…explanation of what has already happen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must make observations and interpretations explicit in their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can you help students achieve thi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bservation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hich senses did you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ference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what is your evidence? How do you know? Why do you think s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Black Box (Brown bag)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ic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cast based on knowledge of patterns and relationships in a data.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diction looks forward to what might happ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 cloudless sunny da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ap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05320" y="3886200"/>
          <a:ext cx="4876560" cy="185436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(a.m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R TEMPERATURE (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tement about a possible answer to a question that might be found through investigating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t is an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ducated gues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out WHY an outcome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DICTION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DUCATED GU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the expected outcome of a specific te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o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explanation based on several hypotheses test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actice: handout hypothesis vs. predi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8:07:57Z</dcterms:created>
  <dc:creator>HWarrior</dc:creator>
  <dc:description/>
  <dc:language>en-US</dc:language>
  <cp:lastModifiedBy>Ram</cp:lastModifiedBy>
  <dcterms:modified xsi:type="dcterms:W3CDTF">2010-05-12T23:14:27Z</dcterms:modified>
  <cp:revision>29</cp:revision>
  <dc:subject/>
  <dc:title>Welcome to Science Methods</dc:title>
</cp:coreProperties>
</file>